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296A-B319-40C8-8481-7E4019528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Office-Power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454B-9BCB-4AAE-84F9-1A9B985A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214-5A75-48F1-A1B0-CCF2B23F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DB9E-3F5B-4F1E-83FB-956CEA11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128-2BF7-4B4E-8473-56D2CAFF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4453-D4A9-4519-8511-E11464EF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899F-7226-4A90-B527-9C21A438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89BE-6F28-48BB-A93A-8D4976CB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FE79-234A-43CD-B3E9-747C22A5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0F76-E7DC-4F33-BA0C-D9B3204E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F3B9-048B-46FF-9AF0-F9E5E7DB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A5CD-390E-4800-B8FA-2F1DB964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4F2-DF22-4A2F-9D23-FABE9743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CAF0-61E5-4A26-B328-2EFF1231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5B00-E3F2-4628-AB99-7A096690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45D0-E3A6-4FC4-9648-01EB4C35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D27F-293D-4017-BC99-7D139425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1631-7005-4673-BFC9-149BCE19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7FA-17AD-43CB-9907-475183CD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300-E800-4E0F-9C82-D6ACE1C4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2D4-12A5-41F0-89B2-6602CF1E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2B4-29D2-4AF9-BB64-6E360B52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2831-7F8D-40FC-B270-7231964C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DC5-92E9-4FAD-B786-933FF81E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92B-DC8E-49B4-914F-5DB89757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6899-404F-4068-8218-CCB28925A4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7A32-5B9C-42A0-BF5D-6CCF6D5B07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w Nat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240" y="129492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uld you have been a Federalist or a Democratic Republican? 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403848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 Xavier Lak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re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r.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pril 23-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amilton vs. Jefferso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ally It is Easy for me to choo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ould have been a Federalist (Hamilt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ould have a strong government-that’s my rea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re to be supporting Hamil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495680" y="4343400"/>
            <a:ext cx="1784520" cy="2514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133720" y="4371840"/>
            <a:ext cx="1768320" cy="24861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86200" y="5486400"/>
            <a:ext cx="552600" cy="36828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a500"/>
                </a:solidFill>
                <a:latin typeface="Arial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bout Being a Federalis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re a federal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good, strong government with 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ough there are limits on states’ pow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 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big National Ba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4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a strong government, you have strong leadership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n gain respect from other countries because of what they were accomplis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14600" y="3657600"/>
            <a:ext cx="2362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ne Other Thing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HATE TO BE ON THE JEFFERSON’S SID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say “I like more of the ideas from Hamilton, than I do Jefferson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81080" y="3809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Why I Hate To Be A Democratic Republican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get a WEAK national government (My BIGGEST reason!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have </a:t>
            </a:r>
            <a:r>
              <a:rPr b="0" lang="en-US" sz="3200" spc="-1" strike="noStrike">
                <a:solidFill>
                  <a:srgbClr val="ffffff"/>
                </a:solidFill>
                <a:latin typeface="Bodoni MT Condensed"/>
              </a:rPr>
              <a:t>sm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usinesses and farms ( Emphasis on smal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, no National Ba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1797120" cy="10731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543800" y="3276720"/>
            <a:ext cx="126828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52:06Z</dcterms:created>
  <dc:creator>xavier.lakin</dc:creator>
  <dc:description/>
  <dc:language>en-US</dc:language>
  <cp:lastModifiedBy>xavier.lakin</cp:lastModifiedBy>
  <dcterms:modified xsi:type="dcterms:W3CDTF">2008-04-25T16:58:40Z</dcterms:modified>
  <cp:revision>12</cp:revision>
  <dc:subject/>
  <dc:title>New Nations</dc:title>
</cp:coreProperties>
</file>